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2403C9-ABD0-46FF-B794-7918515A626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F8F538-AD79-47EE-B60A-1246B3232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F276EB-7424-464D-B96D-273FD34D6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08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55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08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55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03F5A5-18E9-4832-94E2-1B3A132DD47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10A9B2-F627-4C92-A9BD-E148F0705B5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14757B-63C1-4D52-A2E7-BF4CAB290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FD54C3-8D7A-49D7-8B12-1FDA0F26C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E08889-F4C7-4DF1-A8DA-6696D6667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633DEE-7CF9-437C-974D-8AA55F29F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680"/>
            <a:ext cx="74980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2AA77B-4E9E-499F-AE33-052FEA756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3CFB83-F7C2-4615-A1EC-52740EA2F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43F967-6A89-4FC2-B936-8AB6DFF75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D0EC01-3AD8-4DF8-8B16-0B0706C3F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0E1E17-ACB5-43B9-93FD-12A89B4D7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AE0CF8-CF20-4236-8C8A-8D3398457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1BC015-FE57-409E-9339-13C820000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08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55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08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55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BC1650-6B47-4F31-8FD4-5D24DB01DD9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E527D-51BF-49EB-8A26-5B63163B3DD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ABC5D-5DC5-4504-A690-23B0C0748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97758-38BC-4871-A80D-C5A498414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677C7-F9E9-45D2-A50F-5ECA89307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FBBE4-1D83-4748-8EB3-C06BD3844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6B0BC5-B348-4FAE-BD8B-BDC0D6070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680"/>
            <a:ext cx="74980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63991-32EE-49FD-B21F-05F41D656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97559-7884-4422-ADD6-E37BC3FFF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1C5CE-1129-46A6-A1CB-C5C63D058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3ABCC-3F60-47F6-ABEE-F494D5B7D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C70F7-BEDB-4001-A156-7FDC2D77F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9C100-77CD-4D1D-B7F9-999365C90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08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55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08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55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21210-479A-4C4B-AC18-858133B9662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A01D0B-9D04-43F2-93F7-B54DCB1DC3F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BDD760-4298-40D1-9096-303E7182F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C5520D-401E-4237-9C57-DA914BC27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D14F8C-3AE7-46F8-BC75-6ECFAEE12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71F04B-E93F-47B0-97F8-5E04717E6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7AB24D-0B74-4BAD-BEBF-86FE1C9AE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680"/>
            <a:ext cx="74980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A1004D-4158-498D-ADBC-C63A47FEE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871AF0-7C88-4525-960B-76D4E50FE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42A6D9-E5C6-4312-A25D-E28EBCEE9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2151BC-5BAB-44D2-B43F-09E0FF4A3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1AABAC-9381-4CDF-9710-1A5E747FC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FAF2D3-5455-49E8-AC6A-46912984F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08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55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08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55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93AB16-C009-45AB-B33B-1B09656A682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01E2F63-5696-42D6-8111-B9DAA46F25F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2539E3-9000-4DC6-8E61-F0CFB879D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A91049B-9253-4C83-82B6-C308BB5F6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EC78623-5767-41BE-A377-C9B0021B4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DBA22B3-FFC1-436E-9F93-5CCC7D348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40C9059-7A8F-419B-9117-FCFDBC661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680"/>
            <a:ext cx="74980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9193C23-AF08-4D0E-A948-24083FAF3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E8F5B51-F3A6-46A6-86A6-606F465BC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A96CEFD-5223-4163-836F-D1BCA7D6F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EBDFF18-6F18-42EA-B1A1-9D29F2FEA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5964D68-30F2-455F-9856-BC1F01155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86A1258-06F0-430E-B725-653D984CF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680"/>
            <a:ext cx="74980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F97627-A39B-4404-AD18-3C89B6DF7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08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55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08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55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B8107A5-032A-4857-A618-F464B791D00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76B43A-DBE9-41E7-BA8D-91B96FCA886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80A6D7-E0C1-4BC8-9682-8A1970A97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CE4EC6-43E7-4F5B-9ADC-543130038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76E2E8-6427-471B-8298-A2E8D3EE2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1313CF-387E-4E04-B78E-69F178870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680"/>
            <a:ext cx="74980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FFB022-BEB4-4EFB-99BC-1CEE447F6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0D6119-79E0-49CB-A1A9-16EC76F8D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D93B1E-C775-4296-83A3-EB86E0517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965FD4-FBE8-4E1A-A65C-13F3FAF90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FB85A2-58D5-4BE1-84F7-A36D4B99F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08BC2C-F127-4A3D-9460-44D21AF71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D7B55E-D5F4-4DB2-A730-67438C848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08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55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08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55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ADEC2F-3E84-46DE-8828-B88182332DE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264E6F-3741-44B1-9BF0-1E772DFC923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0FA593-1FB4-4F2E-8129-628251612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A155B4-C08B-47C5-A5AD-D13D29012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A4B330-A6E1-4735-8640-DC2B0ADE8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36D1EE-0CD5-4B87-AAD4-19D9DA9FA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680"/>
            <a:ext cx="74980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F12F9C-3FDA-4F9A-9572-60A809CDD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E8246C-711E-4969-BC9F-6FCAD47D8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0D23EC-F7BF-4D7E-AF70-2E017194F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FD4F2A-DE4A-4BEE-820F-C52D7CFDA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68B259-F4BF-4699-8B7E-94E1F87DD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614273-F967-4295-95AE-D3CF0CE55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A6A915-0AAB-4BDE-8565-5A6FAEA54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08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55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08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55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00D493E-8239-4537-8CDE-32E6BAD32B1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950515-D7A7-4D91-9E7B-1F0B89E7E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165240" y="1036800"/>
            <a:ext cx="1168200" cy="1168200"/>
            <a:chOff x="165240" y="1036800"/>
            <a:chExt cx="1168200" cy="1168200"/>
          </a:xfrm>
        </p:grpSpPr>
        <p:pic>
          <p:nvPicPr>
            <p:cNvPr id="3" name="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68200" cy="116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40000">
              <a:off x="348840" y="1216080"/>
              <a:ext cx="793800" cy="77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22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8613720" y="6305040"/>
            <a:ext cx="4557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2777B8C-49D4-4C5D-884E-F8C61C129C29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165240" y="1036800"/>
            <a:ext cx="1168200" cy="1168200"/>
            <a:chOff x="165240" y="1036800"/>
            <a:chExt cx="1168200" cy="1168200"/>
          </a:xfrm>
        </p:grpSpPr>
        <p:pic>
          <p:nvPicPr>
            <p:cNvPr id="51" name="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68200" cy="116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40000">
              <a:off x="348840" y="1216080"/>
              <a:ext cx="793800" cy="77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914400" y="1407960"/>
            <a:ext cx="230040" cy="223920"/>
            <a:chOff x="914400" y="1407960"/>
            <a:chExt cx="230040" cy="223920"/>
          </a:xfrm>
        </p:grpSpPr>
        <p:pic>
          <p:nvPicPr>
            <p:cNvPr id="56" name="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0040" cy="22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760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3"/>
          </p:nvPr>
        </p:nvSpPr>
        <p:spPr>
          <a:xfrm>
            <a:off x="3580920" y="6305040"/>
            <a:ext cx="21322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4"/>
          </p:nvPr>
        </p:nvSpPr>
        <p:spPr>
          <a:xfrm>
            <a:off x="8613720" y="6305040"/>
            <a:ext cx="4557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F817510-8669-464C-837B-DDED5726707F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2163600" y="2809800"/>
            <a:ext cx="230400" cy="223920"/>
            <a:chOff x="2163600" y="2809800"/>
            <a:chExt cx="230400" cy="223920"/>
          </a:xfrm>
        </p:grpSpPr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0400" cy="22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580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5"/>
          </p:nvPr>
        </p:nvSpPr>
        <p:spPr>
          <a:xfrm>
            <a:off x="3580920" y="6305040"/>
            <a:ext cx="21322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57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14A45E5-8236-4B57-B71B-BB2901F667A2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22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sldNum" idx="8"/>
          </p:nvPr>
        </p:nvSpPr>
        <p:spPr>
          <a:xfrm>
            <a:off x="8613720" y="6305040"/>
            <a:ext cx="4557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CF1CE4D-63AB-424A-B47C-59FDFE447EAA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9"/>
          </p:nvPr>
        </p:nvSpPr>
        <p:spPr>
          <a:xfrm>
            <a:off x="3580920" y="6305040"/>
            <a:ext cx="21322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sldNum" idx="10"/>
          </p:nvPr>
        </p:nvSpPr>
        <p:spPr>
          <a:xfrm>
            <a:off x="8613720" y="6305040"/>
            <a:ext cx="4557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27484D9-A1C2-42DF-9FCA-E2EB86CF24D8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1"/>
          </p:nvPr>
        </p:nvSpPr>
        <p:spPr>
          <a:xfrm>
            <a:off x="3580920" y="6305040"/>
            <a:ext cx="21322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57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B7809F2-9C8C-494C-AA5B-B21E10D7B959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"/>
          <p:cNvGrpSpPr/>
          <p:nvPr/>
        </p:nvGrpSpPr>
        <p:grpSpPr>
          <a:xfrm>
            <a:off x="646200" y="969840"/>
            <a:ext cx="4802040" cy="4800600"/>
            <a:chOff x="646200" y="969840"/>
            <a:chExt cx="4802040" cy="4800600"/>
          </a:xfrm>
        </p:grpSpPr>
        <p:pic>
          <p:nvPicPr>
            <p:cNvPr id="273" name="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2040" cy="480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0200" cy="457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"/>
          <p:cNvSpPr/>
          <p:nvPr/>
        </p:nvSpPr>
        <p:spPr>
          <a:xfrm rot="19440000">
            <a:off x="39852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H="1" rot="2100000">
            <a:off x="5003640" y="936720"/>
            <a:ext cx="64944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22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 type="sldNum" idx="14"/>
          </p:nvPr>
        </p:nvSpPr>
        <p:spPr>
          <a:xfrm>
            <a:off x="8613720" y="6305040"/>
            <a:ext cx="4557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C1FE3AE-2C20-4E40-A1A8-D7E6219A92F6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685800" y="85716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300" spc="-1" strike="noStrike">
                <a:solidFill>
                  <a:srgbClr val="0070c0"/>
                </a:solidFill>
                <a:latin typeface="Corbel"/>
                <a:ea typeface="Microsoft YaHei"/>
              </a:rPr>
              <a:t>Из опыта работы</a:t>
            </a:r>
            <a:br>
              <a:rPr sz="4300"/>
            </a:br>
            <a:r>
              <a:rPr b="1" lang="ru-RU" sz="4300" spc="-1" strike="noStrike">
                <a:solidFill>
                  <a:srgbClr val="0070c0"/>
                </a:solidFill>
                <a:latin typeface="Corbel"/>
                <a:ea typeface="Microsoft YaHei"/>
              </a:rPr>
              <a:t> «Неделя финансовой грамотности в 5-11 классах»</a:t>
            </a:r>
            <a:br>
              <a:rPr sz="4300"/>
            </a:b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371600" y="3886200"/>
            <a:ext cx="72723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marL="2700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orbel"/>
                <a:ea typeface="Microsoft YaHei"/>
              </a:rPr>
              <a:t>Казанцева Лена Фаатов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00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orbel"/>
                <a:ea typeface="Microsoft YaHei"/>
              </a:rPr>
              <a:t>Учитель истории 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00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orbel"/>
                <a:ea typeface="Microsoft YaHei"/>
              </a:rPr>
              <a:t>обществознания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00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orbel"/>
                <a:ea typeface="Microsoft YaHei"/>
              </a:rPr>
              <a:t>МБОУ «Большеусинская СОШ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00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orbel"/>
                <a:ea typeface="Microsoft YaHei"/>
              </a:rPr>
              <a:t>Куединский М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2"/>
          <a:stretch/>
        </p:blipFill>
        <p:spPr>
          <a:xfrm>
            <a:off x="714240" y="3000240"/>
            <a:ext cx="3571920" cy="385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1434960" y="142920"/>
            <a:ext cx="749952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57200" y="285840"/>
            <a:ext cx="8229600" cy="58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0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orbel"/>
                <a:ea typeface="Microsoft YaHei"/>
              </a:rPr>
              <a:t>Неделя финансовой грамотности в школе проводится второй год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65040" indent="-280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orbel"/>
                <a:ea typeface="Microsoft YaHei"/>
              </a:rPr>
              <a:t>Цель: </a:t>
            </a:r>
            <a:r>
              <a:rPr b="0" lang="ru-RU" sz="3000" spc="-1" strike="noStrike">
                <a:solidFill>
                  <a:srgbClr val="002060"/>
                </a:solidFill>
                <a:latin typeface="Corbel"/>
                <a:ea typeface="Microsoft YaHei"/>
              </a:rPr>
              <a:t>Содействие повышению уровня информированности детей и молодежи по вопросам личных финансов , способствовать повышению навыков грамотного решения финансовых вопросов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65040" indent="-280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Corbel"/>
                <a:ea typeface="Microsoft YaHei"/>
              </a:rPr>
              <a:t> </a:t>
            </a:r>
            <a:r>
              <a:rPr b="1" lang="ru-RU" sz="3000" spc="-1" strike="noStrike">
                <a:solidFill>
                  <a:srgbClr val="002060"/>
                </a:solidFill>
                <a:latin typeface="Corbel"/>
                <a:ea typeface="Microsoft YaHei"/>
              </a:rPr>
              <a:t>Главной мотивацией участия  </a:t>
            </a:r>
            <a:r>
              <a:rPr b="0" lang="ru-RU" sz="3000" spc="-1" strike="noStrike">
                <a:solidFill>
                  <a:srgbClr val="002060"/>
                </a:solidFill>
                <a:latin typeface="Corbel"/>
                <a:ea typeface="Microsoft YaHei"/>
              </a:rPr>
              <a:t>детей в мероприятиях Недели   становятся </a:t>
            </a:r>
            <a:r>
              <a:rPr b="1" lang="ru-RU" sz="3000" spc="-1" strike="noStrike">
                <a:solidFill>
                  <a:srgbClr val="002060"/>
                </a:solidFill>
                <a:latin typeface="Corbel"/>
                <a:ea typeface="Microsoft YaHei"/>
              </a:rPr>
              <a:t>деньги,</a:t>
            </a:r>
            <a:r>
              <a:rPr b="0" lang="ru-RU" sz="3000" spc="-1" strike="noStrike">
                <a:solidFill>
                  <a:srgbClr val="002060"/>
                </a:solidFill>
                <a:latin typeface="Corbel"/>
                <a:ea typeface="Microsoft YaHei"/>
              </a:rPr>
              <a:t> изданные организатором Недели. Все заработанные в течение недели деньги, можно было потратить на аукционе, предложив свою большую цену за товар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6360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1434960" y="2746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900" spc="-1" strike="noStrike">
                <a:solidFill>
                  <a:srgbClr val="572314"/>
                </a:solidFill>
                <a:latin typeface="Corbel"/>
                <a:ea typeface="Microsoft YaHei"/>
              </a:rPr>
              <a:t>План недели Финансовой грамотности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434960" y="1447920"/>
            <a:ext cx="74995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360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  <a:ea typeface="Microsoft YaHei"/>
              </a:rPr>
              <a:t>На конкурс методических разработок Казанцева Л.Ф.МБОУ Большеусинская СОШ\Разработка Казанцевой Л.Ф..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2"/>
          <a:stretch/>
        </p:blipFill>
        <p:spPr>
          <a:xfrm>
            <a:off x="1214280" y="3286080"/>
            <a:ext cx="4214880" cy="317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1434960" y="2746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900" spc="-1" strike="noStrike">
                <a:solidFill>
                  <a:srgbClr val="0070c0"/>
                </a:solidFill>
                <a:latin typeface="Corbel"/>
                <a:ea typeface="Microsoft YaHei"/>
              </a:rPr>
              <a:t>Деловая игра «Юный бизнесмен»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434960" y="1447920"/>
            <a:ext cx="74995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0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orbel"/>
                <a:ea typeface="Microsoft YaHei"/>
              </a:rPr>
              <a:t>Цель:</a:t>
            </a:r>
            <a:r>
              <a:rPr b="0" lang="ru-RU" sz="2200" spc="-1" strike="noStrike">
                <a:solidFill>
                  <a:srgbClr val="002060"/>
                </a:solidFill>
                <a:latin typeface="Corbel"/>
                <a:ea typeface="Microsoft YaHei"/>
              </a:rPr>
              <a:t> Развитие финансовой грамотности обучающихс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5040" indent="-280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orbel"/>
                <a:ea typeface="Microsoft YaHei"/>
              </a:rPr>
              <a:t>Суть игры: детям 5-11 классов предлагается продать за деньги, или обменять  изделия, выполненные своими руками: мыло, кольца и браслеты из бисера, изделия из бумаги, вышитые , связанные изделия и т.д. Наибольшей популярностью стали изделия из песочного теста, блины, пироги с яблоками и т.д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5040" indent="-280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orbel"/>
                <a:ea typeface="Microsoft YaHei"/>
              </a:rPr>
              <a:t>В актовом зале были поставлены столы, на которых расположились юные предприниматели. Цены были оговорены заранее, реклама изделий выполнена учащимися и помещена на этажах школ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5040" indent="-280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orbel"/>
                <a:ea typeface="Microsoft YaHei"/>
              </a:rPr>
              <a:t>Во время больших перемен ребята продавали свои изделия  школьникам, работникам школы. Наибольшую прибыль получила девочка 6 класса, изготавливающая мыло ручной работ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1434960" y="142920"/>
            <a:ext cx="749952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2"/>
          <a:stretch/>
        </p:blipFill>
        <p:spPr>
          <a:xfrm>
            <a:off x="428760" y="192240"/>
            <a:ext cx="2643120" cy="3512880"/>
          </a:xfrm>
          <a:prstGeom prst="rect">
            <a:avLst/>
          </a:prstGeom>
          <a:ln w="0">
            <a:noFill/>
          </a:ln>
        </p:spPr>
      </p:pic>
      <p:pic>
        <p:nvPicPr>
          <p:cNvPr id="330" name="" descr=""/>
          <p:cNvPicPr/>
          <p:nvPr/>
        </p:nvPicPr>
        <p:blipFill>
          <a:blip r:embed="rId3"/>
          <a:stretch/>
        </p:blipFill>
        <p:spPr>
          <a:xfrm>
            <a:off x="5929200" y="312840"/>
            <a:ext cx="2857680" cy="3797280"/>
          </a:xfrm>
          <a:prstGeom prst="rect">
            <a:avLst/>
          </a:prstGeom>
          <a:ln w="0">
            <a:noFill/>
          </a:ln>
        </p:spPr>
      </p:pic>
      <p:pic>
        <p:nvPicPr>
          <p:cNvPr id="331" name="" descr=""/>
          <p:cNvPicPr/>
          <p:nvPr/>
        </p:nvPicPr>
        <p:blipFill>
          <a:blip r:embed="rId4"/>
          <a:stretch/>
        </p:blipFill>
        <p:spPr>
          <a:xfrm>
            <a:off x="2500200" y="1476360"/>
            <a:ext cx="3786480" cy="503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1434960" y="2746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900" spc="-1" strike="noStrike">
                <a:solidFill>
                  <a:srgbClr val="572314"/>
                </a:solidFill>
                <a:latin typeface="Corbel"/>
                <a:ea typeface="Microsoft YaHei"/>
              </a:rPr>
              <a:t>Мозгобатл «Деньги вчера , сегодня, завтра»</a:t>
            </a:r>
            <a:br>
              <a:rPr sz="3900"/>
            </a:b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434960" y="1447920"/>
            <a:ext cx="74995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0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  <a:ea typeface="Microsoft YaHei"/>
              </a:rPr>
              <a:t>Интеллектуальная игра для учащихся 7-11 классов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65040" indent="-280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  <a:ea typeface="Microsoft YaHei"/>
              </a:rPr>
              <a:t>1 Игра «Что?Где?Когда?», 2 игра «Отгадай рекламу», 3 игра – отгадай имя певца или название группы «Кто поет о деньгах», 4 игра «Отгадай кадр из фильма , где находятся деньги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65040" indent="-280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  <a:ea typeface="Microsoft YaHei"/>
              </a:rPr>
              <a:t>Победители и призеры, а также участники в качестве призов  получают деньги, выпущенные организатором недел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6360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1434960" y="142920"/>
            <a:ext cx="749952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2"/>
          <a:stretch/>
        </p:blipFill>
        <p:spPr>
          <a:xfrm>
            <a:off x="1285920" y="23760"/>
            <a:ext cx="3000240" cy="400068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3"/>
          <a:stretch/>
        </p:blipFill>
        <p:spPr>
          <a:xfrm>
            <a:off x="4071960" y="642960"/>
            <a:ext cx="4214880" cy="561960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4"/>
          <a:stretch/>
        </p:blipFill>
        <p:spPr>
          <a:xfrm>
            <a:off x="1857240" y="3738600"/>
            <a:ext cx="2340000" cy="311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1434960" y="2746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  <a:ea typeface="Microsoft YaHei"/>
              </a:rPr>
              <a:t>Школьный тур олимпиады по финансовой грамотности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434960" y="1447920"/>
            <a:ext cx="74995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360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  <a:ea typeface="Microsoft YaHei"/>
              </a:rPr>
              <a:t>на Функциональную грамотнрсть\фг 7-9 класс.pdf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360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  <a:ea typeface="Microsoft YaHei"/>
              </a:rPr>
              <a:t>Функциональную грамотность\задания по ЧГ 5-6 классы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1434960" y="2746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900" spc="-1" strike="noStrike">
                <a:solidFill>
                  <a:srgbClr val="572314"/>
                </a:solidFill>
                <a:latin typeface="Corbel"/>
                <a:ea typeface="Microsoft YaHei"/>
              </a:rPr>
              <a:t>Подведение итогов Недели. Аукцион.</a:t>
            </a:r>
            <a:br>
              <a:rPr sz="3900"/>
            </a:b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2"/>
          <a:stretch/>
        </p:blipFill>
        <p:spPr>
          <a:xfrm>
            <a:off x="4000680" y="642960"/>
            <a:ext cx="3357360" cy="447660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3"/>
          <a:stretch/>
        </p:blipFill>
        <p:spPr>
          <a:xfrm>
            <a:off x="1071720" y="1173240"/>
            <a:ext cx="2928960" cy="390528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/>
          <p:cNvPicPr/>
          <p:nvPr/>
        </p:nvPicPr>
        <p:blipFill>
          <a:blip r:embed="rId4"/>
          <a:stretch/>
        </p:blipFill>
        <p:spPr>
          <a:xfrm>
            <a:off x="6143760" y="3429000"/>
            <a:ext cx="2463840" cy="3286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11-24T10:52:50Z</dcterms:created>
  <dc:creator>Acer-Kab-10</dc:creator>
  <dc:description/>
  <dc:language>en-US</dc:language>
  <cp:lastModifiedBy>Пользователь Windows</cp:lastModifiedBy>
  <dcterms:modified xsi:type="dcterms:W3CDTF">2022-11-24T16:56:17Z</dcterms:modified>
  <cp:revision>8</cp:revision>
  <dc:subject/>
  <dc:title>Из опыта работы  «Неделя финансовой грамотности в 5-11 классах»</dc:title>
</cp:coreProperties>
</file>